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74F-8068-4974-BCF7-38B8206B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B58-3E48-4450-A5EC-70AA66B4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BE2-9212-46F5-8492-015EDBD45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DB4-FDF8-41FD-99F1-8B0D04A9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735-8BAF-4BAA-A5EB-A514485E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3AE-792D-4756-8692-7F1327B1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3272-FF22-4FDE-832E-0938712F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0F9-1A11-44A4-A306-322E08ED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60DA-018C-46A7-AED5-CDDF27B39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39AC-7C52-413A-B25F-DCE90339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44B-5F2F-4A52-AEE6-EDEFBD74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B7B-0AF5-4D02-B404-9B947BD9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E512-6A73-4CC7-BE74-1EEB3267D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16360" y="494172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動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11E6-5ADD-48DC-8524-BE9DDDDE16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5:57Z</dcterms:modified>
  <cp:revision>219</cp:revision>
  <dc:subject/>
  <dc:title>blanco Framework　システム構成</dc:title>
</cp:coreProperties>
</file>