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382C6-01AF-4964-96E0-9D8194791EC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87EE1-ACC8-4A81-B03A-704C8D534A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DE1D3-095A-46DF-B674-3B3BEC5C0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BBB60-8FBC-4F1A-AC0F-65B07BFFE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1F27-E310-44E3-BDFE-D118D6D44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88D35-1ED7-48FB-983B-C1EEFAD73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0392D-6ED0-4991-B959-694BB900D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B4090-F6C8-425D-914E-15A9D1B6F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4EF71-DE07-4DFE-8F64-DCB6725C4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7035-8A62-4660-A27D-D09603A0B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8FFE-FFA9-4C40-86C6-D71941E31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D2AC-7154-48FB-8351-BB0D3D77B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71A0-CFA5-4837-89FC-1AA74C6C1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34665431-EC54-4D13-A234-5BDC624089A9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08320"/>
            <a:ext cx="5486400" cy="14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</a:t>
            </a: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リューオブジェクト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数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固定長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リソースバンドル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サービス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AntTas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丸ｺﾞｼｯｸM-PRO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コミッタ 自己紹介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2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敏樹・山本耕司・内林宏武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ご紹介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3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OSC2006 Tokyo/Fall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以降の変化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7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の</a:t>
            </a: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ODP.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1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内林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日本語化パッチへの取り組み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山本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質疑応答・意見交流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0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764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「</a:t>
            </a: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ご紹介」 の後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ッチ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メッセージ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00:15Z</dcterms:modified>
  <cp:revision>345</cp:revision>
  <dc:subject/>
  <dc:title>blanco Framework ご紹介</dc:title>
</cp:coreProperties>
</file>