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8EAC8-29A6-4F01-A76B-EADA347909DC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3599-7B55-4D05-A992-6EA066D49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04EE-8A09-4CCA-B93A-FC5A3A3E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8433-772E-41D7-B2C4-4467996A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8EF9-6EC7-418B-8CAE-DD2D6083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874C-4A07-4A7F-B8C2-B8EE5440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AFD8D-A5CC-4C97-88AC-B0AD6B54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16FA-DD8A-4557-A13A-3CA74B14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F8F4-0B78-454D-BE1F-BA29CDBE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A7A2-0159-4497-B602-111232E8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A4EF-094E-416D-A640-3F50A6A2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FB3A-945E-403F-908C-F9A7B3D2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C452-8414-45B6-985F-70AFE089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19AE-D05F-44BC-ADB5-1FF0BFF1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AEAD-46BB-4539-9083-0D0C97B9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3933-CBCE-4F08-B4FE-28B0FFDF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0215-07CB-4B56-AAA5-3755E4F9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5934-000C-4B49-AEAF-C38ED644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C63B-9B5B-46B3-8BCC-69ED9D94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1DD-DF05-403C-930B-5B4B3EF2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81E0-0743-4B23-8164-F9D39C24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70DE-CA72-496E-BDC9-8DE40F86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F079-48E1-4486-9166-84F52445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0EB0-CCB2-4B2F-8E9C-D3006B51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5016-FB57-43F8-827E-644EADEE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994AA-5E5E-4524-B400-29B9096D82EB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362E900-B9A6-4C58-97A2-0B8C6F9EEB0A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40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ご紹介 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     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OSC2006 Tokyo/Fal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6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2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FBEA-F0B2-4B94-82DA-FC2149D06E0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有マス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発表者自己紹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848720" cy="55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4FB7-C123-4F9A-8F0F-0D483FACE88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は何か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オープンソースの下流開発フレームワーク</a:t>
            </a:r>
            <a:br>
              <a:rPr sz="3200"/>
            </a:b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ライセンス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NU LGP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cel(*.xls)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ファイル形式の様式を中心とした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Java / C#.NET / JavaScript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数十人月から数千人月規模のプロジェクトで適用実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A66A-CF17-4BC6-882C-9819D546D4D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272360" cy="36417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314172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D5B7-B0D6-4DF6-99F0-5C8A3483216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11280" y="19479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第二世代ソースコード自動生成は、</a:t>
            </a:r>
            <a:br>
              <a:rPr sz="4000"/>
            </a:b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複数プログラミング言語対応！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次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B.NET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対応という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イノベーションは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　　オープンソースから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生産性・保守性・品質を劇的向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をよろしく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04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CE8E-46AD-4AC8-BF76-6E84712C86D6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do</cp:lastModifiedBy>
  <dcterms:modified xsi:type="dcterms:W3CDTF">2006-10-28T00:39:31Z</dcterms:modified>
  <cp:revision>298</cp:revision>
  <dc:subject/>
  <dc:title>blanco Framework ご紹介</dc:title>
</cp:coreProperties>
</file>