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A574A-9595-4395-8B36-F5FD9FEDD839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BC4B-1CE2-4699-B1E0-AD524BB5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CE0-C43B-4EF2-BB46-A5EBBEEF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8DDF-B1A2-4BEB-933F-E669B133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09EC-7B1F-4D73-8303-6FEFC9D0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408F-1E8C-400A-AA81-33178375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5076-47F3-4A97-8F1A-81FBEFD6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B5E2-1D88-4FB0-94C0-0C3C868E0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6FFD-AE7A-4DCE-B99A-6D3F49E6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A3AF-2297-4177-8D89-D94B1133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D9D8-2CB1-48F8-B8D3-01D296CA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5CE2-2003-435F-911F-7FD0152F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AD6E-135B-4788-AAD2-28D405EA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1681-571D-4E1A-8CA7-1E515550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F7FF-052D-445D-8C4A-6493BDB8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3BDA7-480B-4F81-BB24-B0C6A469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2B23-AD10-408B-8236-6B9EF26AE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F3FA-CEC1-4BC3-8707-48DF6CCE9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2AD0-89BD-456D-9280-E9C99B1D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DB9-E377-4BA3-B4C4-7CCD93F1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4885-04BC-446B-8598-6F866D45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2F12-DCE5-41E6-88FB-0AA3F74C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308-65AF-4E0B-8B68-85523D4C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7327-0197-4CC4-9422-ED958BFD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E8F7-DA0D-456C-B696-C52D229B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C4D5E-5D5E-4992-84D9-76522D409DE2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1814155-5B17-4539-B186-191DB0C29C14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054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OF 2006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ju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西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UNIX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研究会 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CFDA-DF52-404F-B97E-2A8056C51EA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設計理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よりどこ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風味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レームワー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が欲し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84760" y="144360"/>
            <a:ext cx="47196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特に意識している「定理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スモール・イズ・ビューティフル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小さいものは美し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一つのプログラムには一つのことをうまくやらせ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早く試作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効率より移植性を優先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フトウェアを梃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て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して使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過度の対話的インタフェースを避け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すべてのプログラムをフィルタとして設計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1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モール・イズ・ビューティフル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小さいものは美しい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シンプ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オブジェクト指向を使わな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すぐに使うことができるよう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 , tail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コマンドなどを参考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自動生成されたソースコードの実行時ライブラリを不要に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2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一つのプログラムには一つのことをうまくやらせ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機能を減ら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l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を見ただけで仕様が連想できるよう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各プロダクトは互いに疎結合に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3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できるだけ早く試作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にかく試作してみ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4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効率より移植性を優先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複数プログラミング言語のソースコード自動生成を実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最初は リファレンス実装を実現してい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6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フトウェアを梃子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てこ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して使う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ユーザが指定する必要のある項目を極力減ら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梃子の原理により、必要な入力項目を自動収集してしま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blancoDb: JDBC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ライバ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文を試し打ちすることにより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文のメタ情報をデータベースから取得する。検索結果の列名や型情報をメタ情報から取得することにより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Objec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やマッピングのようなことも自動収集で済ませてしまう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8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過度の対話的インタフェースを避け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ache Ant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または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プラグインによる「寡黙な」インタフェー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小さなプロダクトの集合体による開発フレームワー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9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すべてのプログラムをフィルタとして設計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ィルタ処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バッチ処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して実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表計算形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*.xls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に変換するフィルタ処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: 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からソースコードを自動生成するフィルタ処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C72-B186-4AAE-8F24-ED4BDFA8E56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「さらなる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10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UNIX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考え方」か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部分の総和は全体よりも大き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パーセントの解を目指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劣るほうが優れてい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具体的な 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ロダクト群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-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マッピングという考え方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ava / C#.NET / JavaScript / VB.NET / PHP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418B-233B-4298-BB71-A63FF885187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2A8D-6839-49C4-8F38-9D87486083A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8000" y="35002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51280" y="3357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149720"/>
            <a:ext cx="799308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rc 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編集不要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ﾄﾘｯｸ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ce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 Anywhe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F745-DEF3-4EC1-BA79-3902185C3DDE}" type="slidenum">
              <a:t>73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6-11-15T08:50:39Z</dcterms:modified>
  <cp:revision>465</cp:revision>
  <dc:subject/>
  <dc:title>blanco Framework ご紹介</dc:title>
</cp:coreProperties>
</file>