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F9F76-E940-497A-AB1B-9242FCBB136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4E52-CBCD-4E22-A28D-D9CA3359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E52A-3FEB-4125-BE3B-08C657E7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6BCF-297B-4AB8-BFBC-8E5F3F52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BB21-DC62-4266-A9D2-FAA676E36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10E1-45CF-4165-A9C3-9A09263F9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D395-54C1-4FF2-97E9-31AD095C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66EC-9A84-4420-904D-311AB707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2538-C622-4F9B-9B0A-76E925E0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4115-709B-4DA4-9EE1-457D8CAA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51A8-4D62-4442-B3EF-FBDFB865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E71F-A0F0-4566-8C23-6D45B426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21A1-3ACC-4A80-8BF4-095FEE3A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BBD0-CA3C-444A-BED6-EC6AB35A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2263-3A2E-4BE6-AC78-6568C7FC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A088-9CAD-43E0-96BD-F7588884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31F8-54F3-4E15-BBCA-D802B785D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B1B3-C5D9-4CCE-9349-254CA61F0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EFE1-601E-4864-B99B-18B7EDF8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2B0F-0751-4772-BBB8-63E471CA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C389-73BD-48B0-9300-AE2B4025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C260-6096-47E7-9FD5-724B6E39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1B18-1C62-484C-97E8-BBED0792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5D27-69CA-4B7C-A103-4FE1BC75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9448-F6C5-4B87-8FB0-B4636219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DF4F1-7BFC-497E-9AC6-D7A86B75111C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8128EC2-3CE4-4F89-87A3-B49768381E55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4056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クリーンショット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200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7.01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いがぴょん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伊賀 敏樹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lanco Framework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コミッ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1B03-180D-4818-ACE3-AC5CC33B954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カーソルのスクロール方向が指定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.net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332400" cy="5578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41400" y="1096920"/>
            <a:ext cx="7734240" cy="55008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51280" y="5157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1164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前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後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200240" y="1676520"/>
          <a:ext cx="67435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35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609480" y="54100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SI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カラー表示機能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NSI SQL8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aa00ff"/>
                </a:solidFill>
                <a:latin typeface="Arial"/>
              </a:rPr>
              <a:t>ANSI SQL9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5500ff"/>
                </a:solidFill>
                <a:latin typeface="Arial"/>
              </a:rPr>
              <a:t>ANSI SQL9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UNCATE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などのメジャーな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しかし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SI SQL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には含まれない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キーワー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aa00"/>
                </a:solidFill>
                <a:latin typeface="Arial"/>
              </a:rPr>
              <a:t>コメン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文字列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基本パター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表計算ソフトで定義書の記入を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プラグインのボタンを押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が自動生成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C6D9-D0AA-49A3-AA82-77E4A120637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オンライン・バッチ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66720" y="1187280"/>
            <a:ext cx="7794720" cy="54723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82920" y="30700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6050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66720" y="1079640"/>
            <a:ext cx="7974000" cy="52196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b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WSDL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20720" y="1079640"/>
            <a:ext cx="7559640" cy="5040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XM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キーマ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XS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74640" y="1079640"/>
            <a:ext cx="7605720" cy="52196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9640" y="1079640"/>
            <a:ext cx="7740720" cy="5400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だれで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サービス設計・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/ XML Schema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設定ファイル／ソースコード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CSV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11280" y="1036800"/>
            <a:ext cx="7921440" cy="53766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BatchProces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コマンドライン引数チェックロジックの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安心できるバッチプログラム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age()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XML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・文字列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StringConverter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4360" y="1371600"/>
            <a:ext cx="8135640" cy="47214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050920" y="364644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Scrip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VB.NE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81800" cy="49388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VB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417080" cy="52876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Csv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82920" y="4078440"/>
            <a:ext cx="136836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51280" y="41083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メッセージ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リューオブジェクト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数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固定長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24000" y="1838160"/>
            <a:ext cx="8532720" cy="41119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FixedLength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24360" y="242100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08360" y="314172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95640" y="458136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リソースバンドル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704360" cy="32004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ResourceBundle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 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27241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35280" y="3301920"/>
            <a:ext cx="676908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.properti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55040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システム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11280" y="1947960"/>
            <a:ext cx="8280360" cy="32814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ervic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Java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アプリ簡単常駐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tTas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らくらく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Ant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タスク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終わり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2057400" y="4248000"/>
            <a:ext cx="6400800" cy="17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C4244-7542-4040-9E35-C515C4708056}" type="slidenum">
              <a:t>5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全体的な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に書いたとおりのプログラムが作成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を変更したら、プログラムが自動的に変更される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ルーチンワーク的なコーディングを自動化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データベース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shikiIga</cp:lastModifiedBy>
  <dcterms:modified xsi:type="dcterms:W3CDTF">2007-01-15T09:00:58Z</dcterms:modified>
  <cp:revision>318</cp:revision>
  <dc:subject/>
  <dc:title>blanco Framework ご紹介</dc:title>
</cp:coreProperties>
</file>