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8060-D4AB-4219-BDE4-C2107A43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A316-7082-450A-BAAB-DC7B42DA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A1C0-EFC2-4468-A1AD-ACA05A6E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EF79-FBAD-4F6D-81EF-44B593D1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8939-885A-4945-8B54-9D33E560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4E0-CE1A-44FD-8E98-B01FFBFD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6E2-0B97-46ED-9C4D-909E6AF3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1A1A-8E80-481D-A0D5-6E5BCC4C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417F-36BC-4129-8C78-C2D8A879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0220-AAB0-44C4-92EF-A920BC70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8260-6388-45D7-B291-7DC6F1E6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B31F-F5F6-4829-B971-08E3E8AB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0C4B-6172-4589-8F7F-800CCDC5C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80000" y="3357720"/>
            <a:ext cx="2339640" cy="122364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24000" y="765000"/>
            <a:ext cx="3360600" cy="3132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43400" y="787320"/>
            <a:ext cx="2820960" cy="28209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4005360"/>
            <a:ext cx="2844720" cy="262728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3968640"/>
            <a:ext cx="2598840" cy="25988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2720" y="260280"/>
            <a:ext cx="61927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主要プロダ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72360" y="2673360"/>
            <a:ext cx="609840" cy="719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9" idx="3"/>
            <a:endCxn id="47" idx="2"/>
          </p:cNvCxnSpPr>
          <p:nvPr/>
        </p:nvCxnSpPr>
        <p:spPr>
          <a:xfrm>
            <a:off x="7162920" y="3019320"/>
            <a:ext cx="1009800" cy="140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50" name=""/>
          <p:cNvSpPr/>
          <p:nvPr/>
        </p:nvSpPr>
        <p:spPr>
          <a:xfrm>
            <a:off x="6370560" y="4184640"/>
            <a:ext cx="100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文字列関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4186080"/>
            <a:ext cx="971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電文送受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2000" y="9097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ファイル入出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99040" y="966960"/>
            <a:ext cx="14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ータベース関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446800"/>
            <a:ext cx="719280" cy="71892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li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4" idx="3"/>
            <a:endCxn id="56" idx="1"/>
          </p:cNvCxnSpPr>
          <p:nvPr/>
        </p:nvCxnSpPr>
        <p:spPr>
          <a:xfrm flipV="1">
            <a:off x="1258920" y="5803920"/>
            <a:ext cx="757440" cy="25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57" name=""/>
          <p:cNvSpPr/>
          <p:nvPr/>
        </p:nvSpPr>
        <p:spPr>
          <a:xfrm>
            <a:off x="3924360" y="3825720"/>
            <a:ext cx="2087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 Black"/>
              </a:rPr>
              <a:t>blanco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4616280"/>
            <a:ext cx="75708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処理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68720" y="565956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S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24360" y="537228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SD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16000" y="5551560"/>
            <a:ext cx="649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eb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rox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16000" y="5048280"/>
            <a:ext cx="649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クラ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95640" y="1379520"/>
            <a:ext cx="757080" cy="42228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可変長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2171880"/>
            <a:ext cx="720720" cy="421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固定長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95640" y="3000240"/>
            <a:ext cx="792000" cy="385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71640" y="1452600"/>
            <a:ext cx="792360" cy="42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</a:t>
            </a: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コード</a:t>
            </a: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71640" y="2244600"/>
            <a:ext cx="792360" cy="420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71640" y="300024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341360"/>
            <a:ext cx="647640" cy="6494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可変長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2133720"/>
            <a:ext cx="647640" cy="64908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固定長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3070080"/>
            <a:ext cx="770040" cy="7700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パテ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96120" y="2084400"/>
            <a:ext cx="68580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SQL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59400" y="2803680"/>
            <a:ext cx="8035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8" idx="3"/>
            <a:endCxn id="65" idx="1"/>
          </p:cNvCxnSpPr>
          <p:nvPr/>
        </p:nvCxnSpPr>
        <p:spPr>
          <a:xfrm flipV="1">
            <a:off x="1116000" y="1662840"/>
            <a:ext cx="756000" cy="36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"/>
          <p:cNvCxnSpPr>
            <a:stCxn id="70" idx="3"/>
            <a:endCxn id="67" idx="1"/>
          </p:cNvCxnSpPr>
          <p:nvPr/>
        </p:nvCxnSpPr>
        <p:spPr>
          <a:xfrm flipV="1">
            <a:off x="1238400" y="3228840"/>
            <a:ext cx="633600" cy="226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4" name=""/>
          <p:cNvCxnSpPr>
            <a:stCxn id="69" idx="3"/>
            <a:endCxn id="66" idx="1"/>
          </p:cNvCxnSpPr>
          <p:nvPr/>
        </p:nvCxnSpPr>
        <p:spPr>
          <a:xfrm flipV="1">
            <a:off x="1116000" y="2454840"/>
            <a:ext cx="756000" cy="36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"/>
          <p:cNvCxnSpPr>
            <a:stCxn id="62" idx="1"/>
            <a:endCxn id="65" idx="3"/>
          </p:cNvCxnSpPr>
          <p:nvPr/>
        </p:nvCxnSpPr>
        <p:spPr>
          <a:xfrm flipH="1">
            <a:off x="2664000" y="1590840"/>
            <a:ext cx="432000" cy="72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6" name=""/>
          <p:cNvCxnSpPr>
            <a:stCxn id="63" idx="1"/>
            <a:endCxn id="66" idx="3"/>
          </p:cNvCxnSpPr>
          <p:nvPr/>
        </p:nvCxnSpPr>
        <p:spPr>
          <a:xfrm flipH="1">
            <a:off x="2664000" y="2382840"/>
            <a:ext cx="468360" cy="72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7" name=""/>
          <p:cNvCxnSpPr>
            <a:stCxn id="64" idx="1"/>
            <a:endCxn id="67" idx="3"/>
          </p:cNvCxnSpPr>
          <p:nvPr/>
        </p:nvCxnSpPr>
        <p:spPr>
          <a:xfrm flipH="1">
            <a:off x="2709720" y="3193200"/>
            <a:ext cx="386280" cy="360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8" name=""/>
          <p:cNvCxnSpPr>
            <a:stCxn id="58" idx="2"/>
            <a:endCxn id="61" idx="3"/>
          </p:cNvCxnSpPr>
          <p:nvPr/>
        </p:nvCxnSpPr>
        <p:spPr>
          <a:xfrm flipH="1">
            <a:off x="2665440" y="5046480"/>
            <a:ext cx="556920" cy="1821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9" name=""/>
          <p:cNvCxnSpPr>
            <a:stCxn id="58" idx="2"/>
            <a:endCxn id="56" idx="3"/>
          </p:cNvCxnSpPr>
          <p:nvPr/>
        </p:nvCxnSpPr>
        <p:spPr>
          <a:xfrm flipH="1">
            <a:off x="2665440" y="5046480"/>
            <a:ext cx="556920" cy="757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0" name=""/>
          <p:cNvCxnSpPr>
            <a:stCxn id="58" idx="2"/>
            <a:endCxn id="60" idx="0"/>
          </p:cNvCxnSpPr>
          <p:nvPr/>
        </p:nvCxnSpPr>
        <p:spPr>
          <a:xfrm>
            <a:off x="3222000" y="5046480"/>
            <a:ext cx="127080" cy="3261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1" name=""/>
          <p:cNvCxnSpPr>
            <a:stCxn id="71" idx="2"/>
            <a:endCxn id="49" idx="0"/>
          </p:cNvCxnSpPr>
          <p:nvPr/>
        </p:nvCxnSpPr>
        <p:spPr>
          <a:xfrm>
            <a:off x="6739200" y="2514600"/>
            <a:ext cx="22320" cy="289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2" name=""/>
          <p:cNvCxnSpPr>
            <a:endCxn id="70" idx="2"/>
          </p:cNvCxnSpPr>
          <p:nvPr/>
        </p:nvCxnSpPr>
        <p:spPr>
          <a:xfrm rot="5400000">
            <a:off x="1656000" y="2410200"/>
            <a:ext cx="627480" cy="2233080"/>
          </a:xfrm>
          <a:prstGeom prst="curvedConnector3">
            <a:avLst>
              <a:gd name="adj1" fmla="val 108495"/>
            </a:avLst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83" name=""/>
          <p:cNvSpPr/>
          <p:nvPr/>
        </p:nvSpPr>
        <p:spPr>
          <a:xfrm>
            <a:off x="468360" y="274680"/>
            <a:ext cx="179280" cy="358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98560" y="123336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  <a:ea typeface="MS UI Gothic"/>
              </a:rPr>
              <a:t>blancoCs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98560" y="123660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6560" y="2028960"/>
            <a:ext cx="90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</a:rPr>
              <a:t>blancoFixedLeng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98560" y="2028960"/>
            <a:ext cx="2197080" cy="68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8560" y="282096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6560" y="2855880"/>
            <a:ext cx="104472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</a:rPr>
              <a:t>blancoResourceBund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0920" y="4543560"/>
            <a:ext cx="6843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O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71640" y="4471920"/>
            <a:ext cx="2052720" cy="172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80120" y="179532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35760" y="1758960"/>
            <a:ext cx="1415880" cy="1620720"/>
          </a:xfrm>
          <a:custGeom>
            <a:avLst/>
            <a:gdLst>
              <a:gd name="textAreaLeft" fmla="*/ 69120 w 1415880"/>
              <a:gd name="textAreaRight" fmla="*/ 1346760 w 1415880"/>
              <a:gd name="textAreaTop" fmla="*/ 69120 h 1620720"/>
              <a:gd name="textAreaBottom" fmla="*/ 1551600 h 1620720"/>
            </a:gdLst>
            <a:ahLst/>
            <a:rect l="textAreaLeft" t="textAreaTop" r="textAreaRight" b="textAreaBottom"/>
            <a:pathLst>
              <a:path w="21600" h="24724">
                <a:moveTo>
                  <a:pt x="3600" y="0"/>
                </a:moveTo>
                <a:arcTo wR="3600" hR="3600" stAng="16200000" swAng="-5400000"/>
                <a:lnTo>
                  <a:pt x="0" y="21124"/>
                </a:lnTo>
                <a:arcTo wR="3600" hR="3600" stAng="10800000" swAng="-5400000"/>
                <a:lnTo>
                  <a:pt x="18000" y="2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43760" y="1363680"/>
            <a:ext cx="1152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qlEditorPlu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99040" y="1327320"/>
            <a:ext cx="1476360" cy="3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35640" y="4581360"/>
            <a:ext cx="11145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99280" y="4545000"/>
            <a:ext cx="1150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99280" y="494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Character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83280" y="4903920"/>
            <a:ext cx="1582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7280" y="566100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tring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62560" y="5624640"/>
            <a:ext cx="129564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530064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tringConve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9640" y="5264280"/>
            <a:ext cx="154800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70560" y="6021360"/>
            <a:ext cx="11178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Const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34200" y="5985000"/>
            <a:ext cx="118908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A85-C028-4CA0-955A-9DE5FA962A7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ｎｂｂ</cp:lastModifiedBy>
  <dcterms:modified xsi:type="dcterms:W3CDTF">2007-03-16T02:16:44Z</dcterms:modified>
  <cp:revision>194</cp:revision>
  <dc:subject/>
  <dc:title>blanco Framework　システム構成</dc:title>
</cp:coreProperties>
</file>