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71F60-EA20-45A3-BEA4-C65A7D9A983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043F-24DE-4926-B8DA-08257D47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7311-333D-4698-9340-C553F47D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F934-AADE-4A59-94F0-3960AC9A4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B3E5-A517-489F-B5D7-9BB4FD15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9907-51BE-4D24-86E0-E6A8D22B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B655-0F7F-4924-BE4C-2D1AD2B4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C1A6-006F-47DE-8E86-73F847320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DD3C-F6FD-4C11-A2B6-C8CAE4E9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4BE4-85CC-4396-9642-CEAE7684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3467-5556-4D6A-BD6C-053CB28B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EB4C-AAFD-4D7D-87F0-16FC297B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CEA1-64C9-4EA3-AB10-24A09FB9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7FAC-816B-4E3D-80B3-82420F44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2643-6FFD-4BA2-9D5C-CE2C3E8B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5D7E-D36B-439C-A436-97BCB7DC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34E5-044D-4AA4-8477-BFABEC0CB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66EE-22AE-4AF1-9BB0-B489E794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5BE8-B033-4284-84FB-A79C49A7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4F5-A11F-49D7-A9B1-7C6BB918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B97C-9CBF-49EC-BD09-2D06AAA2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4726-E9E2-4157-B8D5-61C50F21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122-5220-4442-8022-5EE5CAE0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2BB-83A3-426C-86AE-E8D37F91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CF8-E055-489A-93F2-7F5A800A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177BE-0B4A-4437-B115-55803178C263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6FD7D44-13AF-4DE4-8D3E-307604B593B6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E24D-03E2-4C6D-998A-03595C30BA8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B71-1421-452B-8EDE-FF2CEFAC9D8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7128-40E8-4009-8E3C-5068C0387EF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５プログラミング言語に対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新たに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 ,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Scri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は多プログラミング言語対応時代に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265E-0F3D-4491-ABCA-36DBD9AB04C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8EE5-6929-4E7A-A655-1DB7F085DE3F}" type="slidenum">
              <a:t>6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6:35:53Z</dcterms:modified>
  <cp:revision>313</cp:revision>
  <dc:subject/>
  <dc:title>blanco Framework ご紹介</dc:title>
</cp:coreProperties>
</file>