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7032-13CD-47EF-AD84-979A51A4809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857B-F9F5-4242-8C80-BD3E0A80033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IoC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への招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機能のすべ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288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5877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パティの型がインターフェイスで、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れぞれの引数型のインターフェイスの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ype2 / Type3 / Type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4720" y="579132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new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'Enjoy shopping!'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i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の一種。軽量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とも言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分野を適切に指し示す用語がまだ定まっ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rsion of Control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略。制御の逆転を意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設定（初期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逆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がオブジェクト生成に責任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プロパティ等の設定をコンテナ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イアントはインターフェイスで受けて実装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初期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プロパティ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メソッド呼び出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1760" y="1341360"/>
            <a:ext cx="744696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4492800"/>
            <a:ext cx="741672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'SOHC-V12 Twin turbo'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5462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1341360"/>
            <a:ext cx="33112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は型で取得できないために、必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am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の設定が必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706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による初期化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71824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の複数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コロン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red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yellow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595008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シング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5:14Z</dcterms:modified>
  <cp:revision>90</cp:revision>
  <dc:subject/>
  <dc:title>スライド 1</dc:title>
</cp:coreProperties>
</file>